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0" y="647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E45-18A1-4527-A3F5-64A85B12415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Introduction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types an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history of antennas and analysis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fferent phased array antenna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240760" cy="586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440760" y="5638680"/>
            <a:ext cx="190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day this is calle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IMO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ray 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and Planar Array Anten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-steer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O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cessing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eam 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ive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es of Antenna Beam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3" name="Picture 1040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iz 1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43000" y="2743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kind of beam does your mobile phone antenna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rminology and uni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or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, refraction, edge diffraction, aperture 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s, waves, phase fronts, phase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and source units and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diation / scattering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" y="2481120"/>
            <a:ext cx="77724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flection, refraction, edge diffraction, aperture diffrac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s, waves, phasefronts (or wavefronts), phase path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4920" y="1262160"/>
            <a:ext cx="84582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Units and dB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Electric field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Volt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agnetic current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Volt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agnetic field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mpere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Electric current density </a:t>
            </a:r>
            <a:r>
              <a:rPr b="1" i="1" lang="sv-S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mpere/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efinition of dB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n Antenna Engineering, we use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is a relative measure, i.e., always compared to a referenc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is always a power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B value is always between 0 and ±200, eas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398592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64832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 = amplitude of E-field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57120" y="5486400"/>
            <a:ext cx="38340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648320" y="5410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 = power density of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tenna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tenna types and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such as radiation, scattering, rays, phase fronts, reflection,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B values are related to physical quantities measured in A, V or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7672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dBi and dB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0000"/>
                </a:solidFill>
                <a:uFillTx/>
                <a:latin typeface="Times New Roman"/>
              </a:rPr>
              <a:t>dBi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means the reference is the isotropic ant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0000"/>
                </a:solidFill>
                <a:uFillTx/>
                <a:latin typeface="Times New Roman"/>
              </a:rPr>
              <a:t>dBm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means the reference is 1 milliwat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dB/K means the reference is 1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mplitude and power ratios and their dB valu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4240" y="1785960"/>
          <a:ext cx="7429680" cy="2533680"/>
        </p:xfrm>
        <a:graphic>
          <a:graphicData uri="http://schemas.openxmlformats.org/drawingml/2006/table">
            <a:tbl>
              <a:tblPr/>
              <a:tblGrid>
                <a:gridCol w="1281240"/>
                <a:gridCol w="768240"/>
                <a:gridCol w="768600"/>
                <a:gridCol w="768240"/>
                <a:gridCol w="768240"/>
                <a:gridCol w="770040"/>
                <a:gridCol w="768240"/>
                <a:gridCol w="768600"/>
                <a:gridCol w="768240"/>
              </a:tblGrid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plitude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445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 in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0 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085760" y="5402160"/>
          <a:ext cx="6343920" cy="741600"/>
        </p:xfrm>
        <a:graphic>
          <a:graphicData uri="http://schemas.openxmlformats.org/drawingml/2006/table">
            <a:tbl>
              <a:tblPr/>
              <a:tblGrid>
                <a:gridCol w="2001960"/>
                <a:gridCol w="1085760"/>
                <a:gridCol w="1085760"/>
                <a:gridCol w="1084320"/>
                <a:gridCol w="108612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/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r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0" name="TextBox 6"/>
          <p:cNvSpPr/>
          <p:nvPr/>
        </p:nvSpPr>
        <p:spPr>
          <a:xfrm>
            <a:off x="3007800" y="45720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olute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B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Use dB, not %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Antenna ef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Good antenna engineers can  control 0.1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easurement accuracy on gain, typ. 0.3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05280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28760" y="2143080"/>
          <a:ext cx="8358120" cy="14018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320"/>
                <a:gridCol w="758880"/>
                <a:gridCol w="760320"/>
                <a:gridCol w="758880"/>
                <a:gridCol w="760320"/>
                <a:gridCol w="760680"/>
                <a:gridCol w="758880"/>
                <a:gridCol w="76032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B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2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Times New Roman"/>
              </a:rPr>
              <a:t>Quiz 2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80880" y="2895480"/>
            <a:ext cx="8382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ǀS</a:t>
            </a:r>
            <a:r>
              <a:rPr b="0" lang="sv-SE" sz="48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ǀ=0.1, S</a:t>
            </a:r>
            <a:r>
              <a:rPr b="0" lang="sv-SE" sz="48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sv-SE" sz="4800" spc="-1" strike="noStrike">
                <a:solidFill>
                  <a:srgbClr val="ff0000"/>
                </a:solidFill>
                <a:latin typeface="Times New Roman"/>
              </a:rPr>
              <a:t>= ̵ 20 dB or  ̵ 10 d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planation of symbo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00100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 (dot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•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55a34e275b0defe1c7f4665a005746c6.png"/>
          <p:cNvPicPr/>
          <p:nvPr/>
        </p:nvPicPr>
        <p:blipFill>
          <a:blip r:embed="rId1"/>
          <a:stretch/>
        </p:blipFill>
        <p:spPr>
          <a:xfrm>
            <a:off x="1295280" y="3581280"/>
            <a:ext cx="282276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00px-Dot_Product_svg.png"/>
          <p:cNvPicPr/>
          <p:nvPr/>
        </p:nvPicPr>
        <p:blipFill>
          <a:blip r:embed="rId2"/>
          <a:stretch/>
        </p:blipFill>
        <p:spPr>
          <a:xfrm>
            <a:off x="4876920" y="3200400"/>
            <a:ext cx="3105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cross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200px-Right_hand_rule_cross_product_svg.png"/>
          <p:cNvPicPr/>
          <p:nvPr/>
        </p:nvPicPr>
        <p:blipFill>
          <a:blip r:embed="rId1"/>
          <a:stretch/>
        </p:blipFill>
        <p:spPr>
          <a:xfrm>
            <a:off x="5105520" y="2895480"/>
            <a:ext cx="3062160" cy="27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d308f37dd82911690b919157eace04d.png"/>
          <p:cNvPicPr/>
          <p:nvPr/>
        </p:nvPicPr>
        <p:blipFill>
          <a:blip r:embed="rId2"/>
          <a:stretch/>
        </p:blipFill>
        <p:spPr>
          <a:xfrm>
            <a:off x="1295280" y="3333600"/>
            <a:ext cx="286560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omponen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dir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Straight Arrow Connector 4"/>
          <p:cNvCxnSpPr/>
          <p:nvPr/>
        </p:nvCxnSpPr>
        <p:spPr>
          <a:xfrm flipV="1">
            <a:off x="3886200" y="3885840"/>
            <a:ext cx="9151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Straight Arrow Connector 6"/>
          <p:cNvCxnSpPr/>
          <p:nvPr/>
        </p:nvCxnSpPr>
        <p:spPr>
          <a:xfrm>
            <a:off x="3885840" y="5257440"/>
            <a:ext cx="251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4"/>
          <p:cNvCxnSpPr/>
          <p:nvPr/>
        </p:nvCxnSpPr>
        <p:spPr>
          <a:xfrm>
            <a:off x="3886200" y="5257440"/>
            <a:ext cx="915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112" name="Straight Arrow Connector 24"/>
          <p:cNvCxnSpPr>
            <a:endCxn id="113" idx="3"/>
          </p:cNvCxnSpPr>
          <p:nvPr/>
        </p:nvCxnSpPr>
        <p:spPr>
          <a:xfrm flipV="1">
            <a:off x="3885840" y="3888720"/>
            <a:ext cx="27720" cy="136908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lg" type="triangle" w="med"/>
          </a:ln>
        </p:spPr>
      </p:cxnSp>
      <p:sp>
        <p:nvSpPr>
          <p:cNvPr id="114" name="TextBox 27"/>
          <p:cNvSpPr/>
          <p:nvPr/>
        </p:nvSpPr>
        <p:spPr>
          <a:xfrm>
            <a:off x="4196880" y="5334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B•â)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488016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478920" y="50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350892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886200" y="50292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yad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vector operation, 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yad if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•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most used vector formulas: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 (dot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•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(cross) produ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x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omponen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dir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yad is a notation for a vector operation, 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yad if we wri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•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(B•â) 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an antenna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ransmitting or receiving 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du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free space and transmission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al spati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ther old words for ant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quations 18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tz 1888: pa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ic metal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ni 1901: Transatlantic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II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ng apertures, reflectors,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quations 18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8640" indent="-328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beautifu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maxwell.jpg"/>
          <p:cNvPicPr/>
          <p:nvPr/>
        </p:nvPicPr>
        <p:blipFill>
          <a:blip r:embed="rId1"/>
          <a:stretch/>
        </p:blipFill>
        <p:spPr>
          <a:xfrm>
            <a:off x="1295280" y="2057400"/>
            <a:ext cx="64771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 fontScale="87000"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arabolic antenna, built by Heinrich Hertz in 1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220px-Hertz_spark_gap_transmitter_and_parabolic_antenna.png"/>
          <p:cNvPicPr/>
          <p:nvPr/>
        </p:nvPicPr>
        <p:blipFill>
          <a:blip r:embed="rId1"/>
          <a:stretch/>
        </p:blipFill>
        <p:spPr>
          <a:xfrm>
            <a:off x="2819520" y="1371600"/>
            <a:ext cx="27939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ni 1901: Transatlantic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Marconi_at_newfoundland.jpg"/>
          <p:cNvPicPr/>
          <p:nvPr/>
        </p:nvPicPr>
        <p:blipFill>
          <a:blip r:embed="rId1"/>
          <a:stretch/>
        </p:blipFill>
        <p:spPr>
          <a:xfrm>
            <a:off x="1066680" y="1752480"/>
            <a:ext cx="6578640" cy="3251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99072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oni watching associates raising the kite used to lift the antenna at St. John's, Newfoundland, December 19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: Ray metho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228600" y="1828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clid 300 BC: reflection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hazan 1000: l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 1621: re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mat, Hamilton 16-18 century: classical geometr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feld 1884: edge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eberg 1944, Kline 1951: modern geometrical optics (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uyoumjian, Pathak 1974-8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geometrical theory of diffraction (U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more authors 1960-today: asymptotic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: a bit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, wave theori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yg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1690: Huyg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nel 1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well 1864: Maxwe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lkunoff 1936: Equivalence princi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: A lot of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rief History, numerical method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erkin, 1871-1945: Galerki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ington, 1968: Moment Method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Boundary Elemen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Methods (F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 Time Domain Method(F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domai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trum of plane wave sol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trum of 2D field sol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ourse: Simple MM for deriving integr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is lecture and additional reading you should be able to summarily 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tenna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tenna types and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such as radiation, scattering, rays, phase fronts, reflection,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xplain (repet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B values are related to physical quantities measured in A, V or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me notes about electromagnetic (EM) field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 fontScale="96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is a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omponents in 3 dimensi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 changes wit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harmonic EM field is a complex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field changes with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948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 of location in 3D space, need some imaging of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Applic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based telecommunication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phones and base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ireless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t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mmunication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ing ground based systems at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earth terminals/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Applic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an and military ra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traffic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search and scouting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tic aperture surveillance radar (SA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llution, traffic, fishing bor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nospheric and planetar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early warn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stronomy &amp; S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6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eorology 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nd resources surveil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Technologi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tenna is often the largest and most expensive part of a microwa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enna theory and analysi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</a:t>
            </a: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D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technology (also artificial materials, also called metamater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ing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antennas were used for Line-Of-Sight (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n antennas are often used in multipath with Rayleigh fading, without 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ce 2008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w lecture about characterization of small antennas in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6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cture about fundamental limitations of anten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106200" rIns="106200" tIns="52560" bIns="5256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t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trip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or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lectric Resonator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y Wave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s of different antenna 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96920"/>
            <a:ext cx="77724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08:29:32Z</dcterms:created>
  <dc:creator>.Per-Simon Kildal</dc:creator>
  <dc:description/>
  <dc:language>en-US</dc:language>
  <cp:lastModifiedBy>Aidin Razavi</cp:lastModifiedBy>
  <cp:lastPrinted>1999-06-09T12:08:59Z</cp:lastPrinted>
  <dcterms:modified xsi:type="dcterms:W3CDTF">2015-03-24T10:39:55Z</dcterms:modified>
  <cp:revision>138</cp:revision>
  <dc:subject/>
  <dc:title>Foundations of Antennas  with Mathcad</dc:title>
</cp:coreProperties>
</file>